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755-C235-4FD6-8C3F-B558A0FC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99C-386D-4DE0-9749-13A86C2D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AED-D059-4AB8-B8D9-4C39C83E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79D-D049-474A-B2B1-50F1F066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D18-939E-4C41-AC1D-1145236E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A4E-7271-44AF-A5AE-174850DC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ABE-BC0A-41DB-9453-B392CCB0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967-91F5-446A-BA88-197236C2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550-F620-46BC-AFDE-066B8A28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F30-2A9C-4F03-86D7-ACDF2716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C00-1423-422D-9D69-BBD97A4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C8B-AAC8-43A3-90B8-D0635891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0D88-F240-4A86-9E63-1AE9CD7685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1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63128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1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0802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1" descr=""/>
          <p:cNvPicPr/>
          <p:nvPr/>
        </p:nvPicPr>
        <p:blipFill>
          <a:blip r:embed="rId1"/>
          <a:stretch/>
        </p:blipFill>
        <p:spPr>
          <a:xfrm>
            <a:off x="1903320" y="365040"/>
            <a:ext cx="52578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1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328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1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88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1" descr=""/>
          <p:cNvPicPr/>
          <p:nvPr/>
        </p:nvPicPr>
        <p:blipFill>
          <a:blip r:embed="rId1"/>
          <a:stretch/>
        </p:blipFill>
        <p:spPr>
          <a:xfrm>
            <a:off x="1476360" y="139680"/>
            <a:ext cx="6120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1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4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1" descr=""/>
          <p:cNvPicPr/>
          <p:nvPr/>
        </p:nvPicPr>
        <p:blipFill>
          <a:blip r:embed="rId1"/>
          <a:stretch/>
        </p:blipFill>
        <p:spPr>
          <a:xfrm>
            <a:off x="2552760" y="189000"/>
            <a:ext cx="3531960" cy="66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09:21:18Z</dcterms:created>
  <dc:creator>lester</dc:creator>
  <dc:description/>
  <dc:language>en-US</dc:language>
  <cp:lastModifiedBy>Ann Louise</cp:lastModifiedBy>
  <dcterms:modified xsi:type="dcterms:W3CDTF">2013-05-05T02:15:33Z</dcterms:modified>
  <cp:revision>19</cp:revision>
  <dc:subject/>
  <dc:title>PowerPoint Presentation</dc:title>
</cp:coreProperties>
</file>